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3.png" ContentType="image/png"/>
  <Override PartName="/ppt/media/image22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33.wmf" ContentType="image/x-wmf"/>
  <Override PartName="/ppt/media/image11.png" ContentType="image/png"/>
  <Override PartName="/ppt/media/image48.png" ContentType="image/png"/>
  <Override PartName="/ppt/media/image13.png" ContentType="image/png"/>
  <Override PartName="/ppt/media/image51.png" ContentType="image/png"/>
  <Override PartName="/ppt/media/image38.wmf" ContentType="image/x-wmf"/>
  <Override PartName="/ppt/media/image40.png" ContentType="image/png"/>
  <Override PartName="/ppt/media/image52.png" ContentType="image/png"/>
  <Override PartName="/ppt/media/image39.wmf" ContentType="image/x-wmf"/>
  <Override PartName="/ppt/media/image41.png" ContentType="image/png"/>
  <Override PartName="/ppt/media/image53.png" ContentType="image/png"/>
  <Override PartName="/ppt/media/image6.wmf" ContentType="image/x-wmf"/>
  <Override PartName="/ppt/media/image36.wmf" ContentType="image/x-wmf"/>
  <Override PartName="/ppt/media/image30.png" ContentType="image/png"/>
  <Override PartName="/ppt/media/image9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15.wmf" ContentType="image/x-wmf"/>
  <Override PartName="/ppt/media/image5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6267A-CFEC-4910-925C-9412CD9DD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822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762360"/>
            <a:ext cx="822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B5070-5125-4365-B953-9F8767B29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623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7623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227ED-EBA7-4702-81E6-5CF7747E4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1775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1775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7623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7623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7623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95CD4-209B-4477-BB4A-6A4865E26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177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CE25E-C70D-404D-B058-04E90D3A2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2EC64-BA9F-4600-BFD7-6D007CDBB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40158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177560"/>
            <a:ext cx="40158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4E124-D75D-4AB9-8D6F-AF7478468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29445-3105-4B80-8D41-B7701B251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2800" y="177840"/>
            <a:ext cx="82296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6E6E8-98AA-4770-A978-E811A2B24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77560"/>
            <a:ext cx="40158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7623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05B45-0BC8-4218-8F56-763404DA8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40158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7623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ACD32-EEA9-4DE1-AED6-6BB75A0DC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62360"/>
            <a:ext cx="822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520B1-74D5-4813-B7A2-7E3036551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77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00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3F0F2-3C77-4514-8D85-3B925F7463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1787400" y="6400440"/>
            <a:ext cx="5546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609B0-B9CB-430C-9917-11F8F32D49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"/>
          <p:cNvPicPr/>
          <p:nvPr/>
        </p:nvPicPr>
        <p:blipFill>
          <a:blip r:embed="rId1"/>
          <a:stretch/>
        </p:blipFill>
        <p:spPr>
          <a:xfrm>
            <a:off x="2001960" y="230040"/>
            <a:ext cx="5175000" cy="610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B4888-4FB4-4FA5-A95B-C7FFEBDC47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Cusum Status Chart (Figure 9.3a)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89" name="Picture 7" descr=""/>
          <p:cNvPicPr/>
          <p:nvPr/>
        </p:nvPicPr>
        <p:blipFill>
          <a:blip r:embed="rId1"/>
          <a:srcRect l="0" t="0" r="0" b="5844"/>
          <a:stretch/>
        </p:blipFill>
        <p:spPr>
          <a:xfrm>
            <a:off x="952560" y="1162080"/>
            <a:ext cx="7238880" cy="42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7D301-07EE-4BDF-95B0-6FB4FBBEA1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42800" y="267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MINITAB Version of Cusum Status Chart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94" name="Picture 12" descr=""/>
          <p:cNvPicPr/>
          <p:nvPr/>
        </p:nvPicPr>
        <p:blipFill>
          <a:blip r:embed="rId1"/>
          <a:stretch/>
        </p:blipFill>
        <p:spPr>
          <a:xfrm>
            <a:off x="731880" y="5622840"/>
            <a:ext cx="3092400" cy="4525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4"/>
          <p:cNvSpPr/>
          <p:nvPr/>
        </p:nvSpPr>
        <p:spPr>
          <a:xfrm>
            <a:off x="3773520" y="5653080"/>
            <a:ext cx="41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nitab calculates the lower Cusum this w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5"/>
          <p:cNvSpPr/>
          <p:nvPr/>
        </p:nvSpPr>
        <p:spPr>
          <a:xfrm flipH="1">
            <a:off x="3614760" y="5788080"/>
            <a:ext cx="395280" cy="1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6" descr=""/>
          <p:cNvPicPr/>
          <p:nvPr/>
        </p:nvPicPr>
        <p:blipFill>
          <a:blip r:embed="rId2"/>
          <a:stretch/>
        </p:blipFill>
        <p:spPr>
          <a:xfrm>
            <a:off x="1090440" y="1733400"/>
            <a:ext cx="6963120" cy="33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4772E-F2E4-46A2-B5BB-48891644DB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"/>
          <p:cNvPicPr/>
          <p:nvPr/>
        </p:nvPicPr>
        <p:blipFill>
          <a:blip r:embed="rId1"/>
          <a:stretch/>
        </p:blipFill>
        <p:spPr>
          <a:xfrm>
            <a:off x="1028880" y="1362240"/>
            <a:ext cx="7086600" cy="41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B5453-0DA6-4E07-95A1-4D28B4B5F6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42800" y="23616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Times New Roman"/>
              </a:rPr>
              <a:t>Recommendations for Cusum Design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06" name="Picture 7" descr=""/>
          <p:cNvPicPr/>
          <p:nvPr/>
        </p:nvPicPr>
        <p:blipFill>
          <a:blip r:embed="rId1"/>
          <a:stretch/>
        </p:blipFill>
        <p:spPr>
          <a:xfrm>
            <a:off x="1087560" y="1246320"/>
            <a:ext cx="7493040" cy="46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B1CC6-EBF3-4C5D-96C6-B177302B7C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409680" y="482760"/>
            <a:ext cx="826272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A5876-1FAF-43FC-9187-83B0AC83F2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The Standardized Cusum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1"/>
          <a:stretch/>
        </p:blipFill>
        <p:spPr>
          <a:xfrm>
            <a:off x="790560" y="1255680"/>
            <a:ext cx="7881840" cy="45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E9D6B-2EFB-4289-8001-7DF3220EFD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42800" y="144000"/>
            <a:ext cx="82296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Improving Cusum Performance for Large Shifts: The Combined Shewhart-Cusum Schem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20" name="Picture 8" descr=""/>
          <p:cNvPicPr/>
          <p:nvPr/>
        </p:nvPicPr>
        <p:blipFill>
          <a:blip r:embed="rId1"/>
          <a:stretch/>
        </p:blipFill>
        <p:spPr>
          <a:xfrm>
            <a:off x="938160" y="1504800"/>
            <a:ext cx="7267680" cy="38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F57C9-82EE-4279-8D1B-B07C2DE3EC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42800" y="23616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Times New Roman"/>
              </a:rPr>
              <a:t>The Fast Initial Response (FIR) Cusum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25" name="Picture 11" descr=""/>
          <p:cNvPicPr/>
          <p:nvPr/>
        </p:nvPicPr>
        <p:blipFill>
          <a:blip r:embed="rId1"/>
          <a:stretch/>
        </p:blipFill>
        <p:spPr>
          <a:xfrm>
            <a:off x="4950000" y="4815000"/>
            <a:ext cx="3271680" cy="14922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2"/>
          <p:cNvSpPr/>
          <p:nvPr/>
        </p:nvSpPr>
        <p:spPr>
          <a:xfrm>
            <a:off x="633240" y="5132520"/>
            <a:ext cx="39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3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2, headstart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2 =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3" descr=""/>
          <p:cNvPicPr/>
          <p:nvPr/>
        </p:nvPicPr>
        <p:blipFill>
          <a:blip r:embed="rId2"/>
          <a:stretch/>
        </p:blipFill>
        <p:spPr>
          <a:xfrm>
            <a:off x="976320" y="870120"/>
            <a:ext cx="7467480" cy="36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62228-05FC-484E-BC2D-B88A936023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1755720" y="4727520"/>
            <a:ext cx="61246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12 implies that the cusum signals at sampl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out the headstart, it would not signal until sample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9" descr=""/>
          <p:cNvPicPr/>
          <p:nvPr/>
        </p:nvPicPr>
        <p:blipFill>
          <a:blip r:embed="rId1"/>
          <a:stretch/>
        </p:blipFill>
        <p:spPr>
          <a:xfrm>
            <a:off x="938160" y="507960"/>
            <a:ext cx="726768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F9E42-F870-4342-8BF3-57EA45AF48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1"/>
          <a:stretch/>
        </p:blipFill>
        <p:spPr>
          <a:xfrm>
            <a:off x="1166760" y="646200"/>
            <a:ext cx="7118280" cy="48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F078C-EF9C-4F46-9735-EB8339BB8E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78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Times New Roman"/>
              </a:rPr>
              <a:t>Learning Objectives</a:t>
            </a: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49" name="Picture 10" descr=""/>
          <p:cNvPicPr/>
          <p:nvPr/>
        </p:nvPicPr>
        <p:blipFill>
          <a:blip r:embed="rId1"/>
          <a:stretch/>
        </p:blipFill>
        <p:spPr>
          <a:xfrm>
            <a:off x="457200" y="1984320"/>
            <a:ext cx="822960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E8A51-8C3F-4BA1-93EE-BFB339002C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More on Cusums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ums are often used to determine if a process has shifted off a specified target because it is easy to calculate the required adjust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-sided cusums are often usef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ums can also be used to monitor vari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ums are available for other sample statistics (ranges, standard deviations, counts, proportion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ional subgroups and cusu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ate Placeholder 1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2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367B8-736F-4196-A608-77227F1530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ooter Placeholder 3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8153280" cy="407664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3"/>
          <p:cNvSpPr/>
          <p:nvPr/>
        </p:nvSpPr>
        <p:spPr>
          <a:xfrm>
            <a:off x="3962520" y="4495680"/>
            <a:ext cx="42670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Date Placeholder 4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5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793F4-0D3A-4A56-88F3-3AF11BBD45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ooter Placeholder 6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The Cusum V-Mask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51" name="Picture 11" descr=""/>
          <p:cNvPicPr/>
          <p:nvPr/>
        </p:nvPicPr>
        <p:blipFill>
          <a:blip r:embed="rId1"/>
          <a:stretch/>
        </p:blipFill>
        <p:spPr>
          <a:xfrm>
            <a:off x="2743200" y="1076400"/>
            <a:ext cx="3657600" cy="2619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2" descr=""/>
          <p:cNvPicPr/>
          <p:nvPr/>
        </p:nvPicPr>
        <p:blipFill>
          <a:blip r:embed="rId2"/>
          <a:stretch/>
        </p:blipFill>
        <p:spPr>
          <a:xfrm>
            <a:off x="852480" y="4140360"/>
            <a:ext cx="7439040" cy="123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Date Placeholder 4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5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A6367-FFB3-46A4-A25F-D5938CF37E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ooter Placeholder 6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8" descr=""/>
          <p:cNvPicPr/>
          <p:nvPr/>
        </p:nvPicPr>
        <p:blipFill>
          <a:blip r:embed="rId1"/>
          <a:stretch/>
        </p:blipFill>
        <p:spPr>
          <a:xfrm>
            <a:off x="434880" y="709560"/>
            <a:ext cx="8507520" cy="24145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"/>
          <p:cNvPicPr/>
          <p:nvPr/>
        </p:nvPicPr>
        <p:blipFill>
          <a:blip r:embed="rId2"/>
          <a:stretch/>
        </p:blipFill>
        <p:spPr>
          <a:xfrm>
            <a:off x="1384200" y="3335400"/>
            <a:ext cx="6418440" cy="29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Date Placeholder 1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2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BC933-E027-4397-9603-0C2BA2A82F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ooter Placeholder 3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857160" y="1143000"/>
            <a:ext cx="742968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69040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BCD18-15FD-46AE-9DC7-7F34CD0FD5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1617840" y="249120"/>
            <a:ext cx="6021360" cy="60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DAFBE-77E2-4ED0-A03F-CC98BA272A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442800" y="603360"/>
            <a:ext cx="8244000" cy="50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5B15F-3E0B-4F5F-9231-B1DD71362D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/>
          <a:stretch/>
        </p:blipFill>
        <p:spPr>
          <a:xfrm>
            <a:off x="757080" y="836640"/>
            <a:ext cx="7966080" cy="36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57C49-B8EE-4242-A2D5-05185554B9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78000" y="309600"/>
            <a:ext cx="8229600" cy="107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9.2 The Exponentially Weighted Moving Average Control Chart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8" name="Text Box 15"/>
          <p:cNvSpPr/>
          <p:nvPr/>
        </p:nvSpPr>
        <p:spPr>
          <a:xfrm>
            <a:off x="596880" y="1924200"/>
            <a:ext cx="214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EWMA 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16" descr=""/>
          <p:cNvPicPr/>
          <p:nvPr/>
        </p:nvPicPr>
        <p:blipFill>
          <a:blip r:embed="rId1"/>
          <a:stretch/>
        </p:blipFill>
        <p:spPr>
          <a:xfrm>
            <a:off x="933480" y="2390760"/>
            <a:ext cx="727704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4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5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AF04F-7763-4C47-BBD0-24F05D27D0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ooter Placeholder 6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8" descr=""/>
          <p:cNvPicPr/>
          <p:nvPr/>
        </p:nvPicPr>
        <p:blipFill>
          <a:blip r:embed="rId1"/>
          <a:stretch/>
        </p:blipFill>
        <p:spPr>
          <a:xfrm>
            <a:off x="2271600" y="473040"/>
            <a:ext cx="4038840" cy="8542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0" descr=""/>
          <p:cNvPicPr/>
          <p:nvPr/>
        </p:nvPicPr>
        <p:blipFill>
          <a:blip r:embed="rId2"/>
          <a:stretch/>
        </p:blipFill>
        <p:spPr>
          <a:xfrm>
            <a:off x="1671480" y="1627200"/>
            <a:ext cx="567720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Date Placeholder 4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lide Number Placeholder 5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6FD9B-4902-405E-A228-B5FCE6057C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ooter Placeholder 6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2800" y="23616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Times New Roman"/>
              </a:rPr>
              <a:t>8.1 The Cumulative Sum Control Chart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54" name="Picture 15" descr=""/>
          <p:cNvPicPr/>
          <p:nvPr/>
        </p:nvPicPr>
        <p:blipFill>
          <a:blip r:embed="rId1"/>
          <a:stretch/>
        </p:blipFill>
        <p:spPr>
          <a:xfrm>
            <a:off x="343080" y="882720"/>
            <a:ext cx="4263840" cy="5537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6" descr=""/>
          <p:cNvPicPr/>
          <p:nvPr/>
        </p:nvPicPr>
        <p:blipFill>
          <a:blip r:embed="rId2"/>
          <a:stretch/>
        </p:blipFill>
        <p:spPr>
          <a:xfrm>
            <a:off x="4606920" y="1692360"/>
            <a:ext cx="411480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24214-51FD-45EC-91E4-B5AD47C54E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0" descr=""/>
          <p:cNvPicPr/>
          <p:nvPr/>
        </p:nvPicPr>
        <p:blipFill>
          <a:blip r:embed="rId1"/>
          <a:stretch/>
        </p:blipFill>
        <p:spPr>
          <a:xfrm>
            <a:off x="2940120" y="179280"/>
            <a:ext cx="3235320" cy="7621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2" descr=""/>
          <p:cNvPicPr/>
          <p:nvPr/>
        </p:nvPicPr>
        <p:blipFill>
          <a:blip r:embed="rId2"/>
          <a:stretch/>
        </p:blipFill>
        <p:spPr>
          <a:xfrm>
            <a:off x="822240" y="4311720"/>
            <a:ext cx="4942080" cy="1619280"/>
          </a:xfrm>
          <a:prstGeom prst="rect">
            <a:avLst/>
          </a:prstGeom>
          <a:ln w="0">
            <a:noFill/>
          </a:ln>
        </p:spPr>
      </p:pic>
      <p:sp>
        <p:nvSpPr>
          <p:cNvPr id="190" name="AutoShape 13"/>
          <p:cNvSpPr/>
          <p:nvPr/>
        </p:nvSpPr>
        <p:spPr>
          <a:xfrm>
            <a:off x="5759280" y="4270320"/>
            <a:ext cx="324000" cy="1703520"/>
          </a:xfrm>
          <a:custGeom>
            <a:avLst/>
            <a:gdLst>
              <a:gd name="textAreaLeft" fmla="*/ 0 w 324000"/>
              <a:gd name="textAreaRight" fmla="*/ 117000 w 324000"/>
              <a:gd name="textAreaTop" fmla="*/ 44280 h 1703520"/>
              <a:gd name="textAreaBottom" fmla="*/ 1659240 h 170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4"/>
          <p:cNvSpPr/>
          <p:nvPr/>
        </p:nvSpPr>
        <p:spPr>
          <a:xfrm>
            <a:off x="6270480" y="482112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ady-state control lim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15" descr=""/>
          <p:cNvPicPr/>
          <p:nvPr/>
        </p:nvPicPr>
        <p:blipFill>
          <a:blip r:embed="rId3"/>
          <a:stretch/>
        </p:blipFill>
        <p:spPr>
          <a:xfrm>
            <a:off x="882720" y="1182600"/>
            <a:ext cx="741024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2F00E-ED31-4F61-93C5-B945D3573F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8" descr=""/>
          <p:cNvPicPr/>
          <p:nvPr/>
        </p:nvPicPr>
        <p:blipFill>
          <a:blip r:embed="rId1"/>
          <a:stretch/>
        </p:blipFill>
        <p:spPr>
          <a:xfrm>
            <a:off x="582480" y="295200"/>
            <a:ext cx="818532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E2504-09F7-4FB4-BA1C-82EAECF440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9" descr=""/>
          <p:cNvPicPr/>
          <p:nvPr/>
        </p:nvPicPr>
        <p:blipFill>
          <a:blip r:embed="rId1"/>
          <a:stretch/>
        </p:blipFill>
        <p:spPr>
          <a:xfrm>
            <a:off x="314280" y="1571760"/>
            <a:ext cx="851544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5B95A-31CE-4432-8DDF-C2F89C6C6D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0" descr=""/>
          <p:cNvPicPr/>
          <p:nvPr/>
        </p:nvPicPr>
        <p:blipFill>
          <a:blip r:embed="rId1"/>
          <a:stretch/>
        </p:blipFill>
        <p:spPr>
          <a:xfrm>
            <a:off x="828720" y="501480"/>
            <a:ext cx="7040520" cy="58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52824-3CB5-4B1B-AA82-904EB43824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Design of the EWMA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209" name="Picture 7" descr=""/>
          <p:cNvPicPr/>
          <p:nvPr/>
        </p:nvPicPr>
        <p:blipFill>
          <a:blip r:embed="rId1"/>
          <a:stretch/>
        </p:blipFill>
        <p:spPr>
          <a:xfrm>
            <a:off x="1422360" y="1325520"/>
            <a:ext cx="6562800" cy="43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3FD81-61DE-437F-A035-6B36A34729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"/>
          <p:cNvPicPr/>
          <p:nvPr/>
        </p:nvPicPr>
        <p:blipFill>
          <a:blip r:embed="rId1"/>
          <a:stretch/>
        </p:blipFill>
        <p:spPr>
          <a:xfrm>
            <a:off x="611280" y="941400"/>
            <a:ext cx="775152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1AF20-C91E-44AE-8DB2-37F2A60748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442800" y="773280"/>
            <a:ext cx="8244000" cy="47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B889A-D41E-48E9-BFFF-5D48F98CF0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63600" y="134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Robustness of EWMA to</a:t>
            </a:r>
            <a:br>
              <a:rPr sz="3200"/>
            </a:b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Non-normal Process Data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222" name="Picture 7" descr=""/>
          <p:cNvPicPr/>
          <p:nvPr/>
        </p:nvPicPr>
        <p:blipFill>
          <a:blip r:embed="rId1"/>
          <a:stretch/>
        </p:blipFill>
        <p:spPr>
          <a:xfrm>
            <a:off x="1481040" y="1560600"/>
            <a:ext cx="637236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C74CA-093B-4649-A726-2ECA9A7247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5" descr=""/>
          <p:cNvPicPr/>
          <p:nvPr/>
        </p:nvPicPr>
        <p:blipFill>
          <a:blip r:embed="rId1"/>
          <a:stretch/>
        </p:blipFill>
        <p:spPr>
          <a:xfrm>
            <a:off x="1341360" y="960480"/>
            <a:ext cx="63835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Date Placeholder 1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2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D9E20-B508-4C61-B84B-5D67C910AB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ooter Placeholder 3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504720" y="1523880"/>
            <a:ext cx="813456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44129-A29A-42C2-A89A-FB2F00E7AE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"/>
          <p:cNvPicPr/>
          <p:nvPr/>
        </p:nvPicPr>
        <p:blipFill>
          <a:blip r:embed="rId1"/>
          <a:stretch/>
        </p:blipFill>
        <p:spPr>
          <a:xfrm>
            <a:off x="149400" y="969840"/>
            <a:ext cx="8735760" cy="41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11C5E-6D27-4477-A055-0808C02E75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Extensions of the EWMA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st initial response fea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itoring vari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itoring count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WMA as a predictor of process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F0FAB-363A-4A4F-8FA4-DF9B89D409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42800" y="267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9.3 The Moving Average Control Chart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240" name="Picture 10" descr=""/>
          <p:cNvPicPr/>
          <p:nvPr/>
        </p:nvPicPr>
        <p:blipFill>
          <a:blip r:embed="rId1"/>
          <a:stretch/>
        </p:blipFill>
        <p:spPr>
          <a:xfrm>
            <a:off x="766800" y="1192320"/>
            <a:ext cx="7602480" cy="44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E375B-0378-44F6-9492-2E8F1189A8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6" descr=""/>
          <p:cNvPicPr/>
          <p:nvPr/>
        </p:nvPicPr>
        <p:blipFill>
          <a:blip r:embed="rId1"/>
          <a:stretch/>
        </p:blipFill>
        <p:spPr>
          <a:xfrm>
            <a:off x="378000" y="353880"/>
            <a:ext cx="8578800" cy="24177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7" descr=""/>
          <p:cNvPicPr/>
          <p:nvPr/>
        </p:nvPicPr>
        <p:blipFill>
          <a:blip r:embed="rId2"/>
          <a:stretch/>
        </p:blipFill>
        <p:spPr>
          <a:xfrm>
            <a:off x="1593720" y="2771640"/>
            <a:ext cx="5307120" cy="34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AAA0C-F802-41E1-97F9-24FC42CA08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1"/>
          <a:stretch/>
        </p:blipFill>
        <p:spPr>
          <a:xfrm>
            <a:off x="684360" y="612720"/>
            <a:ext cx="8043840" cy="55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00644-2CFF-481A-8EF2-ED29420A29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5" descr=""/>
          <p:cNvPicPr/>
          <p:nvPr/>
        </p:nvPicPr>
        <p:blipFill>
          <a:blip r:embed="rId1"/>
          <a:stretch/>
        </p:blipFill>
        <p:spPr>
          <a:xfrm>
            <a:off x="282600" y="871560"/>
            <a:ext cx="864396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AA813-E23D-41AB-B241-A4F2FEFD88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42800" y="178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Times New Roman"/>
              </a:rPr>
              <a:t>Learning Objectives</a:t>
            </a: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258" name="Picture 3" descr=""/>
          <p:cNvPicPr/>
          <p:nvPr/>
        </p:nvPicPr>
        <p:blipFill>
          <a:blip r:embed="rId1"/>
          <a:stretch/>
        </p:blipFill>
        <p:spPr>
          <a:xfrm>
            <a:off x="457200" y="1984320"/>
            <a:ext cx="822960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Date Placeholder 4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5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95E19-D19A-4C1D-9034-E29EAFAFC3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ooter Placeholder 6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The Cumulative Sum Control Chart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64" name="Picture 9" descr=""/>
          <p:cNvPicPr/>
          <p:nvPr/>
        </p:nvPicPr>
        <p:blipFill>
          <a:blip r:embed="rId1"/>
          <a:stretch/>
        </p:blipFill>
        <p:spPr>
          <a:xfrm>
            <a:off x="4648320" y="2579760"/>
            <a:ext cx="4038480" cy="2143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"/>
          <p:cNvPicPr/>
          <p:nvPr/>
        </p:nvPicPr>
        <p:blipFill>
          <a:blip r:embed="rId2"/>
          <a:stretch/>
        </p:blipFill>
        <p:spPr>
          <a:xfrm>
            <a:off x="343080" y="1197000"/>
            <a:ext cx="422892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Date Placeholder 4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5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D3E18-1F98-4E88-98BB-77729BD883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ooter Placeholder 6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The Tabular Cusum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70" name="Picture 10" descr=""/>
          <p:cNvPicPr/>
          <p:nvPr/>
        </p:nvPicPr>
        <p:blipFill>
          <a:blip r:embed="rId1"/>
          <a:stretch/>
        </p:blipFill>
        <p:spPr>
          <a:xfrm>
            <a:off x="1014480" y="1438200"/>
            <a:ext cx="7115040" cy="1990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" descr=""/>
          <p:cNvPicPr/>
          <p:nvPr/>
        </p:nvPicPr>
        <p:blipFill>
          <a:blip r:embed="rId2"/>
          <a:stretch/>
        </p:blipFill>
        <p:spPr>
          <a:xfrm>
            <a:off x="1446120" y="4280040"/>
            <a:ext cx="645156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Date Placeholder 4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5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E564B-CCCA-41A2-B9AE-3310E39667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ooter Placeholder 6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"/>
          <p:cNvPicPr/>
          <p:nvPr/>
        </p:nvPicPr>
        <p:blipFill>
          <a:blip r:embed="rId1"/>
          <a:stretch/>
        </p:blipFill>
        <p:spPr>
          <a:xfrm>
            <a:off x="176040" y="119160"/>
            <a:ext cx="8339400" cy="2382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"/>
          <p:cNvPicPr/>
          <p:nvPr/>
        </p:nvPicPr>
        <p:blipFill>
          <a:blip r:embed="rId2"/>
          <a:srcRect l="0" t="0" r="7461" b="0"/>
          <a:stretch/>
        </p:blipFill>
        <p:spPr>
          <a:xfrm>
            <a:off x="384120" y="2502000"/>
            <a:ext cx="7448760" cy="25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Date Placeholder 1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2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DA819-B602-4FC3-916A-A8DD2916CB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ooter Placeholder 3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0" descr=""/>
          <p:cNvPicPr/>
          <p:nvPr/>
        </p:nvPicPr>
        <p:blipFill>
          <a:blip r:embed="rId1"/>
          <a:stretch/>
        </p:blipFill>
        <p:spPr>
          <a:xfrm>
            <a:off x="331920" y="938160"/>
            <a:ext cx="7980120" cy="17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Date Placeholder 1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2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3CA9F-8F6F-442F-AA59-218BD155D9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ooter Placeholder 3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1898640" y="573120"/>
            <a:ext cx="53053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9T17:36:23Z</dcterms:created>
  <dc:creator>Cheryl Jennings</dc:creator>
  <dc:description/>
  <dc:language>en-US</dc:language>
  <cp:lastModifiedBy>Thomas Kuczek</cp:lastModifiedBy>
  <dcterms:modified xsi:type="dcterms:W3CDTF">2016-03-01T20:09:25Z</dcterms:modified>
  <cp:revision>20</cp:revision>
  <dc:subject/>
  <dc:title>Introduction to Statistical Quality Control, 5th edition</dc:title>
</cp:coreProperties>
</file>